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4A1-59C0-4E22-A021-D44D279D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4EE-86C7-433A-9C96-0CB94CF3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865-E262-4C1B-B175-E4C18781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91B-12D8-402B-9AA8-68DD3AC9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71C-5432-4F3E-86CA-23307CB6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217-7837-40ED-8928-4D3F3FB9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438-1A76-423B-AA0F-6EFF5446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F22-3F93-4802-903F-C9B5E1E0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F1B-4CD0-48CB-9CD4-C990E8B9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2A3-5258-4C24-BD26-10110C36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032-1240-40FF-ADA8-40D3194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E8B-9368-4933-BDEE-636AB42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C134-ADDA-4880-94B8-4759F25DD689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205480" cy="19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0" spc="-1" strike="noStrike">
                <a:solidFill>
                  <a:srgbClr val="000000"/>
                </a:solidFill>
                <a:latin typeface="Calibri"/>
              </a:rPr>
              <a:t>Saint Patrick’s Da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5400" spc="-1" strike="noStrike">
                <a:solidFill>
                  <a:srgbClr val="000000"/>
                </a:solidFill>
                <a:latin typeface="Calibri"/>
              </a:rPr>
              <a:t>Lá Fhéile Pádrai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two Irish reels New Policman and London Lassies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two Irish reels New Policman and London Lassie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3052800" cy="3382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497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211640" y="3284640"/>
            <a:ext cx="2592360" cy="32130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pull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624720" cy="61959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1280" y="461880"/>
            <a:ext cx="7993080" cy="5988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248000" cy="60516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59389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146560" y="476280"/>
            <a:ext cx="3505320" cy="46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3529080" cy="5302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l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092840" cy="546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2952720" cy="286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1042920" y="333360"/>
            <a:ext cx="2808360" cy="3166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26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4105080" cy="3888000"/>
          </a:xfrm>
          <a:prstGeom prst="rect">
            <a:avLst/>
          </a:prstGeom>
          <a:ln w="0">
            <a:noFill/>
          </a:ln>
        </p:spPr>
      </p:pic>
    </p:spTree>
  </p:cSld>
  <p:transition spd="med" advTm="41000">
    <p:pull dir="l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10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haroni"/>
                <a:ea typeface="Aharoni"/>
              </a:rPr>
              <a:t>Saint Patrick’s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Irish Religious festiv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Celebrated March 17</a:t>
            </a:r>
            <a:r>
              <a:rPr b="0" lang="en-IE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 of every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A holiday named after the Patron Saint of Ireland, Saint Patri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Also known as Paddy’s Day or Patrick’s D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Celebrated by Irish people or people who have Irish ancestry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0">
    <p:pull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haroni"/>
                <a:ea typeface="Aharoni"/>
              </a:rPr>
              <a:t>Saint Patri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267920"/>
            <a:ext cx="518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Born in Roman Britain in the 4</a:t>
            </a:r>
            <a:r>
              <a:rPr b="0" lang="en-IE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e used a shamrock to explain about the Christian doctrine of the Trinity – The Father, The Son and The Holy Spir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e died on 17</a:t>
            </a:r>
            <a:r>
              <a:rPr b="0" lang="en-IE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 March 461 and is considered as the principal champion of Irish Christian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e also got rid of all the snakes on the island of Ire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6211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29000">
    <p:pull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St. Patrick’s Day is a national holiday for the people of Ire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veryone is proud to be Irish on this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 St. Patrick’s Day it is a tradition to wear the national colours of green, white and orange, and some shamro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3816360" cy="576108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haroni"/>
                <a:ea typeface="Aharoni"/>
              </a:rPr>
              <a:t>Festi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33360"/>
            <a:ext cx="8075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The St. Patrick’s Festival lasts all week in Ireland with different parties held all over the isla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Traditional Irish music and dancing are held in different concert halls and people have the ‘craic’ all wee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1000">
    <p:pull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haroni"/>
                <a:ea typeface="Aharoni"/>
              </a:rPr>
              <a:t>St. Patrick’s Day Pa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big event of the week is the St. Patrick’s Day Par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ands, dancers, artistic groups and many more walk throughout the streets on Dublin in this colourful ev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384720" cy="5000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pull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3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3198" t="0" r="15959" b="0"/>
          <a:stretch/>
        </p:blipFill>
        <p:spPr>
          <a:xfrm>
            <a:off x="611280" y="260280"/>
            <a:ext cx="7632720" cy="6193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402000" cy="597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897440" cy="316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4897440" cy="2879640"/>
          </a:xfrm>
          <a:prstGeom prst="rect">
            <a:avLst/>
          </a:prstGeom>
          <a:ln w="0">
            <a:noFill/>
          </a:ln>
        </p:spPr>
      </p:pic>
      <p:pic>
        <p:nvPicPr>
          <p:cNvPr id="61" name="The Galway Girl Feat Mundy (Studio Version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pull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0800" cy="5867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l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3:22:10Z</dcterms:created>
  <dc:creator>Beca's Notebook</dc:creator>
  <dc:description/>
  <dc:language>en-US</dc:language>
  <cp:lastModifiedBy>Pepe</cp:lastModifiedBy>
  <dcterms:modified xsi:type="dcterms:W3CDTF">2011-03-13T21:46:38Z</dcterms:modified>
  <cp:revision>24</cp:revision>
  <dc:subject/>
  <dc:title>Saint Patrick’s Day</dc:title>
</cp:coreProperties>
</file>